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2E0-59E4-487F-B8C3-384E13FF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DD4-1C14-4CAB-83CF-1A8FA5F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467-9DDB-47CB-B4BD-F775AEDA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1A5-6879-4291-B437-1063D626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4ED7-06F5-4EE6-A68D-8694BA7C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39D9-1720-4F04-9E3F-6CFC2728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00B4-2043-484A-A422-840EE5CC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D1E7-ED7A-4525-B2B3-AB02CFC2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F27A-43CC-4AA7-AF8E-73F532E9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5E61-CEB0-44A8-99D0-56EAF779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C89C-7495-4B38-9BEF-642E26E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C72-46E2-4205-98FC-249C1C12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602E-190E-4E23-9131-56B110A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857D-797C-4BB4-BC4B-18BB7CF3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5213-445F-4FE7-82F5-1F7BE005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BF77-9D43-4EC0-B11C-558F622A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5596-E144-4940-9E77-7BEB29A0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961-FB95-4D17-9D68-1AACB771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2B3-26E1-4DFB-B887-6565CA45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527-AEF7-4C9F-BF2B-38F4BE1A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1C3-B7F0-4056-B36C-E7E427BD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8E2-F7B7-4BE0-B97F-276FEA7D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825-F11D-40E4-8C2C-19C49935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A87-1AF5-4ECE-906F-E24DCAF5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5D7A-6AF7-4E70-BA87-42DDD494D8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2DE0-059F-425A-B9BF-FDCDD8180C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ople with Mental Illness and Cognitive Disabilities in the Criminal Justice Syste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ob Fleischn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enter for Public Representa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fied mental health sta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fficient numbers of qualified and trained sta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ians (psychiatrists), psychologists, social wor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sonable case loa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atment modaliti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cribed by psychiatr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ry should contain a range of psychiatric medi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all therapy pro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ergency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al units &amp; inpati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al housing for more intense trea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fer to psychiatric hospital or fac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urate mental health record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u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 to 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ll organi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ident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harge planning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u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ment follow up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ty assuranc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ies of utilization patter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ies of clinical outco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c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al issues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H treatment in iso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of physical restra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icide pre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ip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to programs and cred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oble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least 16% of the US prison/jail population has a serious mental illn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the 10 million people booked in into US jails in 1997, at least 700,000 had a serious 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 involved in the MH system are 5 times more likely to be incarcerated than men in the general population; women 6 times more like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sorts of statistics for people with M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re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any given day, L.A. County Jail holds as many as 3,300 individuals with 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idivism rates for inmates with MI are over 70% in some jurisdi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incarcerated, inmates with MI often decompens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especially vulnerable to assault or intimid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act with Law Enforcemen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ests for police servi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-scene assess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-scene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ized police un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peration with MI/DD provi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ining for law enforcement personn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-trial, Adjudication &amp; Sentencing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version efforts and progr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ective assistance of couns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secutorial review and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 and assess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judication and sentenc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bation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arc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gal right to mental health servi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elle v. Gamble, 429 U.S. 97 (199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mendment requires that prison offic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be “deliberately indifferent” (subjective component) t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“serious medical” needs of inmates (objective component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 component – Serious medical ne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lly, prisoner have a right to treatment if health care provider concludes with reasonable degree of medical certainty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soner’s symptoms evidence serious disease or inj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ease or injury is curable or may be substantially allevi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tential for harm to inmate by delay or denial would be substantial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Bowring v. Godwin, 551 F. 2d 44 (4</a:t>
            </a:r>
            <a:r>
              <a:rPr b="0" i="1" lang="en-US" sz="1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Cir. 1977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components of prison MH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reening and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ment moda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fied mental  health staff in sufficient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al needs units &amp; inpatient hospital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urate MH rec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harge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A pro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reening &amp; assessmen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one at least upon admi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identify MI or 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pecially trained sta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ident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mpt referral for comprehensive assessment by MH professional if necess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8:41:09Z</dcterms:created>
  <dc:creator> </dc:creator>
  <dc:description/>
  <dc:language>en-US</dc:language>
  <cp:lastModifiedBy>oj_temp</cp:lastModifiedBy>
  <dcterms:modified xsi:type="dcterms:W3CDTF">2005-09-20T17:15:29Z</dcterms:modified>
  <cp:revision>2</cp:revision>
  <dc:subject/>
  <dc:title>MENTAL HEALTH SERVICES IN PRISONS &amp; JAILS</dc:title>
</cp:coreProperties>
</file>